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3E2-2263-4AB7-B449-9DE48205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2C3-02EF-4904-8382-781E914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BBF-E4F7-41EA-93CA-C358401B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FB7-F75D-4E9E-A34F-12E912B9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655-BE1F-41AA-9D99-A3F9047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3DE-1F2A-4F20-A94F-2C2B72D5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CB9-D691-4C36-BDC5-AB474A7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89B-461C-4CB0-BFBE-969BDBB5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7B0-16AE-46F7-9BAD-A005FCC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31C-D5C1-400E-92F8-33BF3AF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CB5-2ED4-4006-90BF-11F4339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BFD-6713-40FC-AE3A-083EEBF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D09-907A-4DAD-B1F1-100EF4B74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6699ff"/>
                </a:solidFill>
                <a:latin typeface="Arial"/>
              </a:rPr>
              <a:t>Clasificación de eventos de un cuento de hadas como fantasía o realis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ff"/>
                </a:solidFill>
                <a:latin typeface="Arial"/>
              </a:rPr>
              <a:t>Diferencias entre fantasía y realis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uál oración habla acerca de un evento que podría ocurrir en la vida re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drillon sujetó una gorda lagartija en su 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lagartija abrió su boca y habló co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8600" y="53341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99ff"/>
                </a:solidFill>
                <a:latin typeface="Arial"/>
              </a:rPr>
              <a:t>¿Cuál es el razonamiento de la elección efectuada?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endrillon es una mezc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¡Los eventos que nunca suceden en la vida real hacen graciosos los cuentos de hadas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¡Los eventos que son realistas nos ayudan a referirnos a los personajes del cuent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MMj03653040000[1]"/>
          <p:cNvPicPr/>
          <p:nvPr/>
        </p:nvPicPr>
        <p:blipFill>
          <a:blip r:embed="rId1"/>
          <a:stretch/>
        </p:blipFill>
        <p:spPr>
          <a:xfrm flipH="1">
            <a:off x="0" y="36576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44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1042 -0.13055 L 0.12639 -0.22106 C 0.15087 -0.24143 0.18715 -0.25277 0.22517 -0.25277 C 0.2684 -0.25277 0.30295 -0.24143 0.32743 -0.22106 L 0.44375 -0.13055 E">
                                      <p:cBhvr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ff"/>
                </a:solidFill>
                <a:latin typeface="Arial"/>
              </a:rPr>
              <a:t>Ayuda que me permite decidir los eventos en </a:t>
            </a:r>
            <a:r>
              <a:rPr b="0" i="1" lang="es-ES" sz="4000" spc="-1" strike="noStrike">
                <a:solidFill>
                  <a:srgbClr val="6699ff"/>
                </a:solidFill>
                <a:latin typeface="Arial"/>
              </a:rPr>
              <a:t>Cendrill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ento/deta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ntasía o rea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324480" y="1981080"/>
            <a:ext cx="2819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lo s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360" y="25300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99ff"/>
                </a:solidFill>
                <a:latin typeface="Arial"/>
              </a:rPr>
              <a:t>Piense</a:t>
            </a:r>
            <a:br>
              <a:rPr sz="4000"/>
            </a:br>
            <a:r>
              <a:rPr b="0" lang="es-ES" sz="4000" spc="-1" strike="noStrike">
                <a:solidFill>
                  <a:srgbClr val="6699ff"/>
                </a:solidFill>
                <a:latin typeface="Arial"/>
              </a:rPr>
              <a:t>en la forma en que la fantasía y el realismo se utilizan en el próximo cuento de hadas de Cenicienta que le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3:58:39Z</dcterms:created>
  <dc:creator>Jacqueline</dc:creator>
  <dc:description/>
  <dc:language>en-US</dc:language>
  <cp:lastModifiedBy>Jacqueline Arroyo</cp:lastModifiedBy>
  <dcterms:modified xsi:type="dcterms:W3CDTF">2008-08-05T18:24:49Z</dcterms:modified>
  <cp:revision>8</cp:revision>
  <dc:subject/>
  <dc:title>Classifying Fairy Tale Events as Fantasy or Realism</dc:title>
</cp:coreProperties>
</file>